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6D73-9854-4889-8DB3-90FBB67B4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35C6-C98C-4860-B5A3-77697166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09CF-A945-40BC-8ACE-27806CAB0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00BC-8AA3-4205-A9AD-D1170CC9A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CC8C-55A1-4C7A-85DA-463BFB1E0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7DFA-294B-48AD-8761-D19AB1A9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03E8-E81F-4980-9F8D-0F6A206B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1E9A-94C2-465B-B01A-6C0AF8E2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97E1-28A8-447D-8982-275B0606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E671-19A8-4EA4-B0F0-660C827C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155A-8E5F-4DCD-8B86-231AF94D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15E6-F3E6-4BF0-BF0D-CB7CA12F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A1F7-67BE-48D3-B341-BCB7612E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0017-C390-49CC-8A91-61A7A314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5222-043B-46F8-AFFD-5E8DF84C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D075-311B-4780-A407-FA21462D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EC13-35D5-478A-A2A1-AE7C6A854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73D78-276F-463B-9D1D-64EB23F4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0D986-6D11-41B2-B753-FBC67E3B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794A2-D73F-4C00-AAD7-C5A4C3FA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DF6A0-A741-457B-BF9E-DF3A5E5D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EF029-1DBC-43F0-A22F-2A2CFE51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9F66-9116-456D-8D6C-F24EABD5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50FDD-6550-4540-8CDB-CF0E01DF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3AA33-6A52-4FB7-AAB5-8D2D3594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28B0A-65A8-4975-A1BD-EEB6916C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AC69C-56F2-42CE-B5BE-FB96E183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AD9FB-8939-45A5-8DEC-EC52226C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A0723-F32E-44C5-9C35-3ACDE72CC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1B13B-3849-4C96-8754-E662C7DA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2843D-D55C-45D7-AA71-107543BFE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DA44B-0ADB-4E29-B5A4-09F7E30F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9D499-E85B-465F-A0EF-6E68CE72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653B-6412-447E-8BE3-92D5B12A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E2C9E-13C4-49B0-8ABB-D60C74B0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C043B-EC5F-479E-86F6-08A6A81A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1FCDC-8B8C-4D7C-BEEB-0D94E8E4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5BCBD-335B-4C1A-B32E-434F63BF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D1E95-623B-40D9-A5B7-9D1C42D4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7DE72-4EA9-4BD2-9A45-D2FE75A0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77BD3-20A0-4779-B10A-7D49C333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F1D0E-D6BA-4411-9457-E92BA684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A678A-DBDA-4890-B707-D1FC47EB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A724-F9D6-4D26-B40E-ECF56C43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998D-61C8-4594-8804-47A60D31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A197-1F17-4EA1-B3A0-C02D6416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7A2B-C415-41FF-B8E1-2BFEDC01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9C8F-CCE4-492A-A494-02842F88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77BA-3453-4C6D-B55F-F8C36328A01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2889-374D-49CE-9878-52CAEF966A9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A438-DC6F-47F7-843D-5660A697B38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E5AA-5266-408C-9E3A-37EDF1756A2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2202480" y="65412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Факултет медицинских наука у Крагујев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Основне струковне студ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4050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6"/>
          <p:cNvSpPr/>
          <p:nvPr/>
        </p:nvSpPr>
        <p:spPr>
          <a:xfrm>
            <a:off x="324000" y="1484280"/>
            <a:ext cx="8381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1547640" y="2490840"/>
            <a:ext cx="6120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imes New Roman"/>
              </a:rPr>
              <a:t>6. наставна јединица (шеста недеља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муникација са лицима са посебним потреб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4585680" y="5950080"/>
            <a:ext cx="430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оц. др Александра Јуришић Шкев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Title 1" descr=""/>
          <p:cNvPicPr/>
          <p:nvPr/>
        </p:nvPicPr>
        <p:blipFill>
          <a:blip r:embed="rId1"/>
          <a:stretch/>
        </p:blipFill>
        <p:spPr>
          <a:xfrm>
            <a:off x="171360" y="907920"/>
            <a:ext cx="8064720" cy="14274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стварање амбијента поверења и сигурност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исказивање емпатије и хуманистичког односа према пацијенту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уважавање личности пацијент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244440" y="1066680"/>
            <a:ext cx="8064360" cy="16700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028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јасн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разумљив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недвосмислен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244440" y="987480"/>
            <a:ext cx="8070840" cy="14209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3520" y="30477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флексибилнос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добронамернос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толеранциј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исказивање емпатиј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налажење заједничких елемената (нпр.интересовања) са пацијентом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46000"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Популациј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соб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посебним потребам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(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штећен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лух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вид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говор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проблем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ходом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)</a:t>
            </a:r>
            <a:r>
              <a:rPr b="0" lang="sr-RS" sz="2200" spc="-1" strike="noStrike">
                <a:solidFill>
                  <a:srgbClr val="ffc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ffc000"/>
                </a:solidFill>
                <a:latin typeface="Calibri"/>
              </a:rPr>
              <a:t>-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често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карактериш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убјективн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доживљај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дбаченост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д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кружењ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сећањ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мање</a:t>
            </a:r>
            <a:r>
              <a:rPr b="0" lang="sr-RS" sz="2200" spc="-1" strike="noStrike">
                <a:solidFill>
                  <a:srgbClr val="ffc000"/>
                </a:solidFill>
                <a:latin typeface="Calibri"/>
              </a:rPr>
              <a:t>  вредности,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тидљивост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R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рамежљивост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некад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неповерљивост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умњичавост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сновн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постулат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комуникациј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собам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из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в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груп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заснив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н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чињениц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д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болестан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човек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ниј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н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м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бит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,,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мањ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вредан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човек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,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што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ј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чест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лучај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редин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којој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живимо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Визуелн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аперпециј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телесног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недостатк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мисл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кретањ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пажњ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н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ист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д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тран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аговорник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мож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провоцират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вакв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реакциј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Равноправно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учешћ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комуникациј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R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поштовањ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личност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аговорник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 </a:t>
            </a:r>
            <a:r>
              <a:rPr b="0" lang="sr-R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уважавањ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мишљењ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веукупних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могућност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личност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(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когнитивн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пособност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таленат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фонд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знањ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из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дређених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бласт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)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учинић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д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људ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из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в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популациј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буд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равноправн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чланов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друштвен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заједниц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што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ћ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пружит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могућност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з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њихов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аутентичн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амореализациј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0T18:29:15Z</dcterms:created>
  <dc:creator>Korisnik</dc:creator>
  <dc:description/>
  <dc:language>en-US</dc:language>
  <cp:lastModifiedBy>Milanče Sin</cp:lastModifiedBy>
  <dcterms:modified xsi:type="dcterms:W3CDTF">2023-02-03T23:08:47Z</dcterms:modified>
  <cp:revision>32</cp:revision>
  <dc:subject/>
  <dc:title>Slide 1</dc:title>
</cp:coreProperties>
</file>